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36CC-1ADA-455D-86CC-15766010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787-D75E-4B4B-AA13-58C8D509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93F-520B-4889-82DC-57C8252A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CD7-F10C-451A-99DC-9FE65E4C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FD06-9477-4323-BC44-917393ED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47F-133D-4D0D-87BB-E2DAB85A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8B7A-11CE-4AB1-BB78-442125E7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7F6-233D-4C9A-916C-B7831C06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C51A-7EDB-448B-A95B-26884F92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98FC-6B88-47A2-AD18-FA40093E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8244-B009-4BE1-A580-C109830C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482-F39F-44FD-9677-E58D0B30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F1D6-B01A-4102-8E06-94F2B7E49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2930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howcard Gothic"/>
              </a:rPr>
              <a:t>TOSCO EM AÇA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468792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4T03:02:25Z</dcterms:created>
  <dc:creator>Microsoft</dc:creator>
  <dc:description/>
  <dc:language>en-US</dc:language>
  <cp:lastModifiedBy>Microsoft</cp:lastModifiedBy>
  <dcterms:modified xsi:type="dcterms:W3CDTF">2012-03-24T03:02:39Z</dcterms:modified>
  <cp:revision>1</cp:revision>
  <dc:subject/>
  <dc:title>Slide 1</dc:title>
</cp:coreProperties>
</file>